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E702-7F9C-45C2-AF0B-A22FB97A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F068-7ACF-4F51-9BA1-2952F8FD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CEE3-2845-4282-B6D8-C8EDFB1F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8EB8-A48F-4387-B021-FAA2EFD1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F7CB-8C79-4F71-8DA3-882B905A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F0DA-70B0-4D22-B885-CAF63C6A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D266-3FF9-4B91-8A4E-6C6D66BA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23C8-8A6C-4827-957B-BF2212A3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F3AF-FD21-46C5-9DB3-74486D44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C790-07EA-48A9-B74C-27306A5C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353C-4DC0-4A81-9A9C-06A63871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4956-B391-474A-A113-366EAD07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6B70-5931-4FA4-9BC7-A27B6730E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1.bp.blogspot.com/_JZdzW7Z4eIA/SdsqCJmnVjI/AAAAAAAAAH8/WWdcWQfbrE8/s1600-h/Rorschach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http://img.66.ru/image/5bb1df51bfa593d8811bfebaf61875f0/47dd6289/0/44/34/443475_normal.jpg"/>
          <p:cNvPicPr/>
          <p:nvPr/>
        </p:nvPicPr>
        <p:blipFill>
          <a:blip r:embed="rId1"/>
          <a:stretch/>
        </p:blipFill>
        <p:spPr>
          <a:xfrm>
            <a:off x="-457200" y="-136440"/>
            <a:ext cx="1035360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4.bp.blogspot.com/_ybECwyo1hn8/SciLZB89nXI/AAAAAAAAAWQ/7AzFaW7N-vo/s320/bourreau.jpg"/>
          <p:cNvPicPr/>
          <p:nvPr/>
        </p:nvPicPr>
        <p:blipFill>
          <a:blip r:embed="rId1"/>
          <a:stretch/>
        </p:blipFill>
        <p:spPr>
          <a:xfrm>
            <a:off x="1600200" y="0"/>
            <a:ext cx="4952880" cy="74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1.bp.blogspot.com/_JZdzW7Z4eIA/SdsqCJmnVjI/AAAAAAAAAH8/WWdcWQfbrE8/s320/Rorschac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914400" y="0"/>
            <a:ext cx="10450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marriagerepaircenter.com/marriagerepaircenter011001.jpg"/>
          <p:cNvPicPr/>
          <p:nvPr/>
        </p:nvPicPr>
        <p:blipFill>
          <a:blip r:embed="rId1"/>
          <a:stretch/>
        </p:blipFill>
        <p:spPr>
          <a:xfrm>
            <a:off x="-549360" y="228600"/>
            <a:ext cx="96933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quondam.com/08/0749i02.jpg"/>
          <p:cNvPicPr/>
          <p:nvPr/>
        </p:nvPicPr>
        <p:blipFill>
          <a:blip r:embed="rId1"/>
          <a:stretch/>
        </p:blipFill>
        <p:spPr>
          <a:xfrm>
            <a:off x="762120" y="-152280"/>
            <a:ext cx="783108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honolulu.hawaii.edu/distance/sci122/Programs/p3/Rorschach.gif"/>
          <p:cNvPicPr/>
          <p:nvPr/>
        </p:nvPicPr>
        <p:blipFill>
          <a:blip r:embed="rId1"/>
          <a:stretch/>
        </p:blipFill>
        <p:spPr>
          <a:xfrm>
            <a:off x="1295280" y="0"/>
            <a:ext cx="601992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fred5080145.files.wordpress.com/2008/09/mo469fd.gif"/>
          <p:cNvPicPr/>
          <p:nvPr/>
        </p:nvPicPr>
        <p:blipFill>
          <a:blip r:embed="rId1"/>
          <a:stretch/>
        </p:blipFill>
        <p:spPr>
          <a:xfrm>
            <a:off x="1752480" y="-154080"/>
            <a:ext cx="5346720" cy="70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utpsyc.org/TATintro/TATlab.jpg"/>
          <p:cNvPicPr/>
          <p:nvPr/>
        </p:nvPicPr>
        <p:blipFill>
          <a:blip r:embed="rId1"/>
          <a:stretch/>
        </p:blipFill>
        <p:spPr>
          <a:xfrm>
            <a:off x="0" y="-268200"/>
            <a:ext cx="9144000" cy="71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sfu.ca/~achanne/psychtests/TAT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4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sfu.ca/~achanne/psychtests/TAT08GF.jpg"/>
          <p:cNvPicPr/>
          <p:nvPr/>
        </p:nvPicPr>
        <p:blipFill>
          <a:blip r:embed="rId1"/>
          <a:stretch/>
        </p:blipFill>
        <p:spPr>
          <a:xfrm>
            <a:off x="1447920" y="-85680"/>
            <a:ext cx="563868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5:31:11Z</dcterms:created>
  <dc:creator>BHS</dc:creator>
  <dc:description/>
  <dc:language>en-US</dc:language>
  <cp:lastModifiedBy>BHS</cp:lastModifiedBy>
  <dcterms:modified xsi:type="dcterms:W3CDTF">2010-01-22T15:50:18Z</dcterms:modified>
  <cp:revision>2</cp:revision>
  <dc:subject/>
  <dc:title>Slide 1</dc:title>
</cp:coreProperties>
</file>